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A567-92CD-49D1-8744-A2A4117D9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B1A2-AE98-43E8-8AF2-31B522601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ACCA-32A1-4B45-BE1B-BFF52A253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2161-D41C-4FB1-A470-BF0D2921A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B389-000E-45B8-A22C-398364D5B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B485-2D83-4CF4-B32B-5C52479E7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13A4-7C4A-4A20-BAF2-886431643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0E3F-D7DB-4A07-BEB9-403456761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94D0-8CFE-4FC1-876F-6838F2A36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D263-26CB-4B90-9BDC-5B6179C39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8D86-897F-4886-90A7-EBB8645C4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A248-18C3-4BC6-B1B5-72732A2B1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8F8AF-10EC-4D47-BA49-EE8D7581EF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hornets.net/basketball/2005/ncaa/images/ncaas_sn_darrin_shine_jpg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hornets.net/basketball/2005/ncaa/images/ncaas_sn_darrin_shine_jpg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hornets.net/basketball/2005/ncaa/images/ncaas_sn_darrin_shine_jpg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ohornets.net/basketball/2005/ncaa/images/ncaas_sn_darrin_shine_jpg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ohornets.net/basketball/2005/ncaa/images/ncaas_sn_darrin_shine_jpg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ohornets.net/basketball/2005/ncaa/images/ncaas_sn_darrin_shine_jpg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rId1"/>
          </p:cNvPr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62120" y="509760"/>
            <a:ext cx="7848360" cy="6348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S3 Intermedia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sketball -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ructures and Strateg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ap Less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ednesday 22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Septemb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>
            <a:hlinkClick r:id="rId1"/>
          </p:cNvPr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62120" y="509760"/>
            <a:ext cx="7848360" cy="6348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sson Star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 a structure in basketba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 a strategy in basketba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 three roles in basketba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 the fundamentals of play in basketba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 the method you used to gather information about your performan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four strengths in the fast brea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four weaknesses in the fast brea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>
            <a:hlinkClick r:id="rId1"/>
          </p:cNvPr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62120" y="509760"/>
            <a:ext cx="7848360" cy="63482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arning Outcom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e set goals and targe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ing techn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sion for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>
            <a:hlinkClick r:id="rId1"/>
          </p:cNvPr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62120" y="509760"/>
            <a:ext cx="7848360" cy="63482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620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Goal Set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two weaknesses (one from zone and one from fast break).  This will be the element you try and improve next ye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 two reasons you want to improve this element.  What effect will this have on your ga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>
            <a:hlinkClick r:id="rId1"/>
          </p:cNvPr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62120" y="509760"/>
            <a:ext cx="7848360" cy="63482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620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523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Answering techniq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question you answer should start with a sentence.  Your introductory sentence should reword the ques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questions are asking abou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so where possible answer in the first pers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the introduction develop the main content of your ans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ways finish with a closing sent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/>
          </p:cNvPr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62120" y="509760"/>
            <a:ext cx="7848360" cy="63482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620280"/>
            <a:ext cx="79200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nswering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l me everything you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762120" y="509760"/>
            <a:ext cx="7848360" cy="63482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620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ample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role you played in your chosen structure or strategy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a structure or strategy you have us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762120" y="509760"/>
            <a:ext cx="7848360" cy="63482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99640" y="620280"/>
            <a:ext cx="7272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IT TEST -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Wednesday 29</a:t>
            </a:r>
            <a:r>
              <a:rPr b="1" lang="en-US" sz="2000" spc="-1" strike="noStrike" u="sng" baseline="30000">
                <a:solidFill>
                  <a:srgbClr val="000000"/>
                </a:solidFill>
                <a:uFillTx/>
                <a:latin typeface="Arial"/>
              </a:rPr>
              <a:t>th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Septe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omework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dnesday 2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pt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se for unit tes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over all notes and course bookl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762120" y="509760"/>
            <a:ext cx="7848360" cy="63482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26920" y="620280"/>
            <a:ext cx="734544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Revision task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poster detailing everything you have learnt about basketb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4T08:47:05Z</dcterms:created>
  <dc:creator>hamiltonp</dc:creator>
  <dc:description/>
  <dc:language>en-US</dc:language>
  <cp:lastModifiedBy>hamiltonp</cp:lastModifiedBy>
  <dcterms:modified xsi:type="dcterms:W3CDTF">2010-09-21T08:16:09Z</dcterms:modified>
  <cp:revision>3</cp:revision>
  <dc:subject/>
  <dc:title> S3 Intermediate</dc:title>
</cp:coreProperties>
</file>